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1131-26A3-40E6-A873-842CE7A0D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FE18-CC87-4BA2-AB88-99A964C01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332-597F-48E0-9F42-9DF4CB398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B18-1754-4D92-8BC9-E0BDDE6A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462-6A29-4D6B-9E13-D5D2ADD6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9DD0-7F8F-4139-9BD5-5FADB7FE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8769-51DE-42F7-B0B1-0F03CEF2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EFA2-9994-478E-9086-1322BA25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861A-CFE9-4C15-8893-490E23A3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BAFA-816E-4689-820B-FA861277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FC5A-1BA7-48B1-8D18-65D26D60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6FC7-C258-42BD-921B-5653BAA5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85F1-5E58-4605-89DC-F47C67B7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EC0-A9CA-4F0B-8167-AD392238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A5DA-C7BC-4387-85D3-495674E6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5A83-393F-4DFA-BD62-24709029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B617-13BC-4B2E-8943-8C96018F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7048-8609-44AA-92C3-0B2D684D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EDC6-175A-4668-AAA5-83C992F4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0B6D-E0FE-477C-BEBD-E6475F00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0BF-6B5B-443A-9851-63E36C96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EA7-0C3A-48A8-946B-E94EEC39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95C-1F3E-4DD3-BB42-9B87B62D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E32-2E61-4D2D-97D0-4EC6E221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DE4-1E70-4F31-AB4B-14655DA9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28B-4F14-4C8B-BC7F-B9A63EE1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A930-3110-475A-BEB4-2AC0E09841A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1BEF-85EE-460A-A6E0-2E9A8A58B91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assroom Procedur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Pass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 are allowed three passes out of my room each six week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y student who does not leave the classroom for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ny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ason during a grading period will receive bonus point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asses can only be used during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last 5 minutes of clas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Absenc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is very important that you attend class dai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n absence is unexcused, you will receive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zero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for all daily work that d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an absence is excused, you will be excused from daily grades for the da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General behavior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aise your hand &amp; wait to be called on before speaking or getting out of your sea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ld all trash at your desk until class is ove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bell does not dismiss you, I do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ait until my signal to pack up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 gum, candy, food, drinks, etc. without permissio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 excuses.  Take responsibility for your action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on tim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prepare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 respectful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assroom Expectation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Reminders!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dd these to your pape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ever walk behind the teacher’s desk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ring a jacket!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riously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. I cannot adjust the temperature to everyone’s individual needs.;-) I am sure you understan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lways keep the door closed during class. Students are not allowed to open the classroom door for safety. The teacher will open the door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 will NOT spend class time asking you daily to take something off your head or put your phone away. These actions will warrant discipline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Beginning clas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nter the room silently &amp; go directly to your assigned sea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harpen pencils before the bell ring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gin the bellringer &amp; wait quiet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Bellringer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cord the date, question, answer choices, &amp; correct answer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re will be a bellringer test every 15 bellringer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Tardie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f you are not inside the room when the tardy bell rings, you are tard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tardy will be documented. Tardies are referred to the office for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&amp; subsequent offens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t is very important that you are on time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nd already in your seat working when the bell rings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Manager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s position rotates every week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sponsibilities include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assing back paper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unning errand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Turning in paper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apers must be labeled in the upper right hand corner (first and last name, date, and block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lways pass your papers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silently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to the fron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tudents in the front of each row should turn all papers the correct wa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teacher or the manager will deposit papers in the “in” basket for each perio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Getting papers back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ded papers will be placed in the “out” basket for each perio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manager will pass them back daily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f you are absent, your papers will be left in the basket until you return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Notebooks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ou need a one-inch, three ring binder with loose-leaf paper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table of contents will be recorded &amp; displayed in the classroom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ch assignment in your notebook will have a number &amp; be recorded on the table of contents  in the classroom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notebook quiz will be given once a grading period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Gothic"/>
              </a:rPr>
              <a:t>Grade sheet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is your responsibility to utilize your grade sheet.  With so many students, I will not be able to check your grade for you whenever you are curious about i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3:58:46Z</dcterms:created>
  <dc:creator>rspencer</dc:creator>
  <dc:description/>
  <cp:keywords/>
  <dc:language>en-US</dc:language>
  <cp:lastModifiedBy>rspencer</cp:lastModifiedBy>
  <dcterms:modified xsi:type="dcterms:W3CDTF">2011-01-18T20:20:19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33</vt:lpwstr>
  </property>
</Properties>
</file>